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E0F-B581-4087-89F6-D0516574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776-8717-45D8-B351-6D89EA5A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509-FF9F-4C47-96BA-6B961675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36B-01FE-4A7F-B069-02D0BBF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531-A6C2-411B-ABFC-4575B73B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0CB-2AC3-4455-8A32-D3E242C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9A68-9E7C-4F91-8AE2-69578F5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5D85-E891-4BF6-B1C6-47DF78F2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F7F-AF45-4947-A63D-DB39243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636-15B6-4B7C-B517-C42494CA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A1A3-EF47-4CCB-BFEF-57D523D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1A9-C2B9-4107-B2AC-9497831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22E9-71B5-4B2B-9722-E1483EF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DD7-539E-4CD0-B487-B5297CF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7E15-E09E-410F-B0A8-0F544A5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E7E-281B-4F6F-BAE1-F1BDFCA3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1534-6B8A-4C05-896D-7C0F8CA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50B-4164-4D08-B6F7-3A71011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C59-87EF-4634-A229-14AF0A46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0A6-6A79-4E07-A927-745A905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C54-8E31-42CB-8DF1-457B6E9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E40-D088-4244-A113-55422E1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4DA-0CF3-4E2A-BA77-B3DE182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52E-28AB-4367-8FBC-BBC3E26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Freeform 2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4D058-2902-41C0-A3D0-FD61A93A71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Freeform 2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3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Rectangle 4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Для добавления текста щёлкните мыш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FD89FC-620D-4439-A0F2-02C9959391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-144360" y="100800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ahoma"/>
              </a:rPr>
              <a:t>Муниципальное общеобразовательное учреждение - </a:t>
            </a:r>
            <a:br>
              <a:rPr sz="1600"/>
            </a:br>
            <a:r>
              <a:rPr b="1" lang="ru-RU" sz="1600" spc="-1" strike="noStrike">
                <a:solidFill>
                  <a:srgbClr val="ffffcc"/>
                </a:solidFill>
                <a:latin typeface="Tahoma"/>
              </a:rPr>
              <a:t>средняя общеобразовательная школа № 3 </a:t>
            </a:r>
            <a:br>
              <a:rPr sz="1600"/>
            </a:br>
            <a:r>
              <a:rPr b="1" lang="ru-RU" sz="1600" spc="-1" strike="noStrike">
                <a:solidFill>
                  <a:srgbClr val="ffffcc"/>
                </a:solidFill>
                <a:latin typeface="Tahoma"/>
              </a:rPr>
              <a:t>города Аткарска Саратов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cc"/>
                </a:solidFill>
                <a:latin typeface="Tahoma"/>
              </a:rPr>
              <a:t>имени Героя Советского Союза Антонова Владимира Семеновича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ыступление по теме: «Формирование функциональной грамотности у учащихся с ОВЗ по основным предметам»</a:t>
            </a:r>
            <a:br>
              <a:rPr sz="36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            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                                                  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Аткарск, 202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356000" y="4917960"/>
            <a:ext cx="45244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III этап. Работа с текстом после чт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1. Концептуальная (смысловая) беседа по тексту. Коллективное обсуждение прочитанного, дискуссия. Соотнесение читательских интерпретаций (истолкований, оценок) произведения с авторской позицией. Выявление и формулирование основной идеи текста или совокупности его главных смысл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. Знакомство с писателем. Рассказ о писателе. Беседа о личности писателя. Работа с материалами учебника, дополнительными источник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3. Работа с заглавием, иллюстрациями. Обсуждение смысла заглавия. Обращение учащихся к готовым иллюстрациям. Соотнесение видения художника с читательским представление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4. Творческие задания, опирающиеся на какую-либо сферу читательской деятельности учащихся (эмоции, воображение, осмысление содержания, художественной нормы)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На всех этих этапах предлагаю  использовать следующие приёмы работы: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Приём – «Чтение с остановками».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атериалом для его проведения служит повествовательный текст. На начальной стадии урока учащиеся по названию текста определяют, о чём пойдёт речь в произведении. На основной части урока текст читается по частям. После чтения каждого фрагмента ученики высказывают предположения о дальнейшем развитии сюжета. Данная стратегия способствует выработке у учащихся внимательного отношения к точке зрения другого человека и спокойного отказа от своей, если она недостаточно аргументирована или аргументы оказались несостоятельными.</a:t>
            </a:r>
            <a:br>
              <a:rPr sz="18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2. 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Приём «Синквейн».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данном случае речь идёт о творческой работе по выяснению уровня осмысления текста. Этот приём предусматривает не только индивидуальную работу, но и работу в парах и группах.</a:t>
            </a:r>
            <a:br>
              <a:rPr sz="18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3. 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Приём «Работа с вопросником»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именяют при введении нового материала на этапе самостоятельной работы с учебником. Детям предлагается ряд вопросов к тексту, на которые они должны найти ответы. Причем вопросы и ответы даются не только в прямой форме, но и в косвенной, требующей анализа и рассуждения, опоры на собственный опыт. После самостоятельного поиска обязательно проводится фронтальная проверка точности и правильности, найденных ответов, отсеивание лишнего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4.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Приём «Знаю, узнал, хочу узнать».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именяется как на стадии объяснения нового материала, так и на стадии закрепления. Например, при изучении творчества А.С. Пушкина дети самостоятельно записывают в таблицу, что знали о Пушкине и его произведениях, что узнали нового, какие его стихи и что хотели бы узнать. Работа с этим приемом чаще всего выходит за рамки одного урока. Графа «Хочу узнать» дает повод к поиску новой информации, работе с дополнительной литературой.</a:t>
            </a:r>
            <a:br>
              <a:rPr sz="18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5. Приём «Мозговой штурм»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зволяет активизировать  школьников, помочь разрешить проблему, формирует нестандартное мышление. Такая методика не ставит ребёнка в рамки правильных и неправильных ответов. Ученики могут высказывать любое мнение, которое поможет найти выход из затруднительной ситуации.</a:t>
            </a:r>
            <a:br>
              <a:rPr sz="18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 6.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Приём «Уголки» можно использовать на уроках литературного чтения при</a:t>
            </a:r>
            <a:br>
              <a:rPr sz="20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оставлении характеристики героев какого-либо произведения. Класс делится на две группы. Одна группа готовит доказательства положительных качеств героя, используя текст и свой жизненный опыт, другая - отрицательных, подкрепляя свой ответ цитатами из текста. Данный прием используется после чтения всего произведения. В конце урока делается совместный вывод.</a:t>
            </a:r>
            <a:br>
              <a:rPr sz="18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.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Приём «Написание творческих работ»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 хорошо зарекомендовал себя на этапе закрепления изученной темы. Например, детям предлагается написать продолжение понравившегося произведения из раздела или самому написать сказку или стихотворение. Эта работа выполняется детьми, в зависимости от их уровня развития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8. Приём «Создание викторины»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сле изучения темы или нескольких тем дети самостоятельно, пользуясь учебными текстами, готовят вопросы для викторины, потом объединяются в группы и проводят соревнование. Можно предложить каждой группе выбирать лучшего – «знатока», а потом задать ему вопросы(участвуют все желающие)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9. Приём «Логическая цепочка»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сле прочтения текста учащимся предлагается построить события в логической последовательности. Данная стратегия помогает при пересказе текстов. Этот приём можно использовать при подготовке к пересказу большого по объёму произведения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10. Приём «Тонкие и толстые вопросы»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ти учатся различать те вопросы, на которые можно дать однозначный ответ (тонкие вопросы), и те, на которые ответить определенно невозможно, проблемные (толстые) вопросы.</a:t>
            </a:r>
            <a:br>
              <a:rPr sz="2000"/>
            </a:b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Примеры ключевых слов толстых и тонких вопросов</a:t>
            </a:r>
            <a:br>
              <a:rPr sz="2000"/>
            </a:br>
            <a:r>
              <a:rPr b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) Толстые вопросы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айте несколько объяснений, почему...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чему Вы считаете (думаете) 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чем различие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редположите, что будет, если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Что, если…?</a:t>
            </a:r>
            <a:br>
              <a:rPr sz="2000"/>
            </a:br>
            <a:r>
              <a:rPr b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2) Тонкие вопросы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Кто…? Что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Когда…? Может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Будет…? Мог ли 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ерно ли …? Было ли 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Как звали 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огласны ли Вы…?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анная работа способствует развитию мышления и внимания учащихся, а также развивает умение задавать ''умные'' вопросы. Классификация вопросов заставляет вдумываться в текст и помогает лучше усвоить его содержание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2781360"/>
            <a:ext cx="21240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11.«Древо мудрости»: 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начала быстро, но внимательно дети читают текст. Затем каждый пишет записку, в которой задается вопрос по тексту и крепит ее к нарисованному дереву (на доске). Далее по очереди каждый подходит к дереву, “срывает” записку и отвечает на вопрос вслух. Остальные оценивают вопрос и ответ. Прежде, чем срывать с дерева листочки-вопросы, дети еще раз прочитывают заданный текст. В конце определяются лучшие знатоки.</a:t>
            </a:r>
            <a:br>
              <a:rPr sz="2000"/>
            </a:b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Данная технология предусматривает проведение тематического урока в форме игры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899400" y="4554360"/>
            <a:ext cx="22446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ЗАКЛЮЧЕНИЕ:</a:t>
            </a:r>
            <a:br>
              <a:rPr sz="24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ри использовании на уроках  указанных форм и методов работы у обучающихся с ОВЗ формируются навыки мышления и рефлексии, которые являются важными составляющи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заключение хочу отметить, что эффективность данной работы, прежде всего зависит от педагога, задача которого, выступая организатором учебной деятельности, стать заинтересованным и интересным соучастником этого процесса. Тогда он уверенно может сказать: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 «Мои ученики будут узнавать новое не только от меня; они будут открывать это новое сами»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И.Г. Песталоцци).</a:t>
            </a:r>
            <a:br>
              <a:rPr sz="2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19280" y="5300640"/>
            <a:ext cx="55450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«Функционально грамотный человек способен использовать все постоянно приобретаемые в течение жизни знания, умения и навыки для решения максимально широкого диапазона жизненных задач в различных сферах деятельности, общения и социальных отношений»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лексей Алексеевич Леонтьев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лингвист, психолог, доктор психологических наук и доктор филологических наук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ункциональная грамотность — вопрос, актуальный для педагогов, учеников и родителей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ту задачу нужно решать только сообща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 в процессе можно получить удовольствие — ведь учиться для жизни всегда приятно. И неважно, какой предмет вы преподаете — встроить задачи по развитию функциональной грамотности можно практически в любой урок!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дна из важнейших задач современной школы – формирование функционально грамотных люд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Что такое «функциональная грамотность»?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Функциональная грамотность – способность человека вступать в отношения с внешней средой, быстро адаптироваться и функционировать в ней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Функционально грамотная личность – это человек: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ориентирующийся в мире и действующий в соответствии с общественными ценностя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способный быть самостоятельным в ситуации выбора и принятия решений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– умеющий отвечать за свои решения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– способный нести ответственность за себя и своих близких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– легко адаптирующийся в любом социуме и умеющий активно влиять на него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– хорошо владеющий устной и письменной речью как средством взаимодействия между    людьми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– владеющий современными информационными технологиям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ль учителя - развить ребёнка.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Развить мышление - из наглядно-действенного перевести его в абстрактно-логическо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Развить речь, аналитико-синтетические способности, развить память и внимание, фантазию и воображение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Пространственное восприяти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-Развить моторную функцию, способность контролировать свои движения, а также мелкую моторику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Развить коммуникативные способности, способность общаться, контролировать эмоции, управлять своим поведением. Решая эти задачи, учитель получает в результате функционально развитую личность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уществуют основные формы функциональной грамотности:</a:t>
            </a:r>
            <a:br>
              <a:rPr sz="28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20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грамотность в чтении и письме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грамотность в естественных науках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математическая грамотность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-компьютерная грамотность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-грамотность в вопросах здоровья;                                                                                        -коммуникативная грамотность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-юридическая грамотность и т.д.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Функциональная   грамотность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 предмету   заключается в способности обучающихся использовать умение читать и писать в повседневной жизни.   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   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своей работе создаю условия для обучения школьников приёмам умственной деятельности, к которым относится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абота с книгой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текстом и наглядным материалом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Эта работа проводится по этапа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1. Перечитать текст, определить главную мысль прочитанного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. Разбить текст на смысловые группы и выделить главные слова или предложения, которые выражают основную мысль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3.  Учить составлять план по опорным словам или предложениям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4.  Уметь передать содержание текста (полно или кратко) по плану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5.  Уметь выделить в тексте главное, сделать вывод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хнология включает в себя три этапа работы с текстом.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I этап. Работа с текстом до чт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1. Антиципация (предвосхищение, предугадывание предстоящего чтения)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пределение смысловой, тематической, эмоциональной направленности текста, выделение его героев по названию произведения, имени автора, ключевым словам, предшествующей тексту иллюстрации с опорой на читательский опы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. Постановка целей урока с учетом общей (учебной, мотивационной, эмоциональной, психологической) готовности учащихся к работе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а этом этапе необходимо ввести детей в тот мир, который описан автором. Традиционно это знакомство с эпохой, с автором, словарная работа. Подбираем такие виды работ, которые вызовут интерес к теме произведения и желание его прочитать: ключевые слова (дети, используя их, уточняют свои предположения о теме произведения,    о героях, о том, как будет развиваться действие); собери и запиши пословицы, которые соответствуют теме, идее и нарисуй к ним иллюстрац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II этап. Работа с текстом во время чт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1. Первичное чтение текста. Самостоятельное чтение в классе, или чтение-слушание, или комбинированное чтение (на выбор учителя) в соответствии с особенностями текста, возрастными и индивидуальными возможностями учащихся.           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ыявление первичного восприятия (с помощью беседы, фиксации первичных впечатлений, смежных видов искусств – на выбор учителя). Выявление совпадений первоначальных предположений учащихся с содержанием, эмоциональной окраской прочитанного текста.                        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. Перечитывание текста. Медленное «вдумчивое» повторное чтение (всего текста или его отдельных фрагментов). Анализ текста (приёмы: диалог с автором через текст, комментированное чтение, беседа по прочитанному, выделение ключевых слов и проч.)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становка уточняющего вопроса к каждой смысловой ча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3. Беседа по содержанию в целом. Обобщение прочитанного. Постановка к тексту обобщающих вопросов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бращение (в случае необходимости) к отдельным фрагментам текста, выразительное чтение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13T14:45:52Z</dcterms:created>
  <dc:creator>пк</dc:creator>
  <dc:description/>
  <dc:language>en-US</dc:language>
  <cp:lastModifiedBy>Элен Элен</cp:lastModifiedBy>
  <dcterms:modified xsi:type="dcterms:W3CDTF">2024-11-15T04:34:45Z</dcterms:modified>
  <cp:revision>6</cp:revision>
  <dc:subject/>
  <dc:title>Муниципальное общеобразовательное учреждение -  средняя общеобразовательная школа № 3  города Аткарска Саратовской области имени Героя Советского Союза Антонова Владимира Семеновича     Выступление по теме: «Формирование функциональной грамотности у учащихся с ОВЗ по основным предметам»                                                                                                                                                Подготовила:                                                                                                                                    учитель – дефектолог                                                                            Иванова М.А.      Аткарск, 2024 г.</dc:title>
</cp:coreProperties>
</file>